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24B9-9B68-4FB7-BF21-93F90E78A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DA41-963F-4FA0-9C80-144D28CD9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F514EE-0526-4FA3-B46B-2E8126CC8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382736-C9B9-4A9A-8192-C2BCC4FE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E90634-6201-4FE7-84C1-81ADD6CF7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F52F6B-B6C6-4114-B709-50F4E01D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2D3D73-1B41-4568-BCA6-1BF2682B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A9BF5F-8628-4F57-B1F4-BC98E2E7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1BACE1-E623-43B5-82FE-E2715A28A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51FDD4-41F5-49F5-9DF3-85221B906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B7D03B-384F-42AE-A389-ED1F4B3B7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9D254F-2706-4815-B9DE-4CCC9B4FC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8C85-2D20-46BA-A632-C73F34E2A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8715BA-1EE0-4A27-BBF1-1C722F47B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89EF73-F100-4025-9245-0791780FC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DD5AC7-84F8-47D1-BDC6-43A74BB4E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2010EA-11DC-4B54-A3DA-6DA8D4020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844972-2D59-44BE-B755-761D82850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4D23B9-D634-4099-9177-8252795A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825AF1-051E-4DE2-8C59-124508E0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C1F035-41A7-4FA1-B4A2-3DFA54AB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CAE185-FCFA-4A14-B632-2BC666182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39BDCF-63CC-440D-8DAF-84C4AEC7D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09F6-F1B3-4975-9F33-E8FEBEFFA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BDE590-541C-4E1E-B947-DA0C5C4B3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1B919F-7483-4EC0-BB18-302E57B00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579588-4EAB-452D-839B-FE1D424DD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34AAD0-CA92-4C6F-89B6-761B30F82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570635-D819-412F-86DC-8C344B0F1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04999D-AFBD-4DB8-9F9B-45D46D851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F71F0C-A888-423F-81A5-0DA96FDBB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531FB1-AE7C-42F8-B125-F2E72FDD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9B8867-AF57-4333-870F-663393B6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69F51B-5032-48D4-A625-5E4E1229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D93FC-B862-4409-9725-F5D8E6CE1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E4AC9D-A697-4766-8047-AEB995399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E5C8F5-F90A-45CB-9E7C-76FFAA14D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4EA439-A63B-432C-B8D0-4AE19B328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A7EB3F-50B8-4870-9DE9-CF22B0702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B62DF9-86D6-47F8-85F9-10F165316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459C11-B7D2-41B6-A50C-118CDAA36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156E88-2978-4A61-8A40-1418713A6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0A0308-7BBA-4A9E-B8BA-5A8BCC5F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5F02C9-EF96-4139-A134-FEA538BBA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329AA3-3112-4E8A-A27F-0211FA01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ACA45-BC53-465D-97A3-2AEED490C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6C781B-0468-4AF0-B639-82A15944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4D4C90-EE83-4977-95A6-354CD56A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9BD308-49F9-4DA7-AA26-70B646700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8E11BF-FBB9-4E75-AA01-6A8DA0F70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36F429-8F85-41E5-91CA-48D32861B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E2C335-4F2B-4D42-A938-2A792D99C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E0AC54-320B-4393-901C-48CDC5732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E5C31C-17C6-4CD1-8BA7-9B478512A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3DE236-143B-405D-AEF5-73FE312AD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9A0FC7-9665-4A67-BD69-1F52B2CB4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1B689-D41F-49CA-ACF1-8129811FA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3B5365-5BAA-496B-A9A2-25BD49AB4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A0E387-4CFB-4A54-8DE3-84A598D4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DEAFB4-FD5A-4AB6-AE9A-5D866C1D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E7349B-5FF0-4CBB-A8DE-63D46CDB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4ED58F-334E-474C-ABAB-9FA68F370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AF4EFB-20AD-4BB3-A494-04B9CFB30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940E97-FE0B-4B21-9168-1642C03F8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79E921-DF5F-40AE-B485-27F8B3C2C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AD140F-A9F7-4B3B-B1E6-3D78DC381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8EBCFF-CB7A-4337-A7BD-98CF1B856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7BBE0-358C-4738-9DD9-DA0E0E6E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879818-446E-4C26-8BDC-E654E263E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92E6E1-13AF-430E-B20E-9DC77328B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F90C8B-359E-4A77-8596-F190AC89E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186D68-B31E-4E22-9127-B31260B5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EACE18-1BF1-4092-B78E-6D6E1EF9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B32049-22CE-43F2-AAF7-CB01D6FC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681F5F-7B6F-4B8E-86DB-4D1C1F5E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307644-CAF0-4B86-BD1D-038BD4A6F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EAB807-5F81-41A2-A6B6-0394DA070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B70DCF-A080-442A-A87D-05B3F7149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A049A-18D7-4E3A-B1C2-DFE7E8EAB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69E8E0-033E-411F-A614-BE64FF94F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4BEF16-4A76-4213-A984-AF8CDB891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EE7BF6-E459-496D-BF7F-7BB78E861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3E2DE9-1FAB-43B3-ADDC-7A0F81844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A1B910-2362-4D9B-9DD5-0D801A89A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9B8E6A-CFE8-4878-9156-5F2B0656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CD83CA-116B-4EA9-A9E1-8A8B1BD7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9B283F-D73C-4FAD-B6D5-C45281DB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FC7CDA-2CFD-41A2-8B0A-36AB3F29B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3464E7-100A-4909-A767-81B534912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B4B1F-99A3-4014-812F-5968E45EB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6D8B1B-124B-40DD-98AC-D1B60687F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BAB9F8-366D-48EB-9856-A516ECB9D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386E6D-AB7C-46AA-B3D2-79D8984E2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97D4DE-4145-4891-AEE3-407914EF6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C6DCA1-8460-4C5F-B64A-596CC1B8D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39D5B5-FEE9-497D-8468-E1E463CD3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E2F4E5-9D5A-483D-AAD8-DF86201D1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5CAB6C-7F99-46F0-AE04-78213894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FFE7DA-9452-46AF-ABB4-833A8DAC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BFB916-FD35-42C8-8AE6-B0E7092E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13AAC-E131-4551-88A6-63BCCAC1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28F821-7C43-4B8B-ABFC-0EEA19690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B36C43-6860-4E05-BFE9-DD315D21A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B687E7-9A46-4B7B-8C1C-6971E6A6C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B7358C-5563-48CC-9B2D-16B238C46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BB71CE-8C18-434A-AFFB-B2A81ABFD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A73F7E-437E-47FD-A943-C8CC13C91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9336F2-B25A-4D26-921F-F1FA404E1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068B86-1DE2-4B09-9C86-C6083BF91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E5B1AE-E727-42B9-B6CB-FBDE76041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5D7C75-AF93-455C-9851-6FC16EB8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E7AB-89DF-4A52-895A-DE9B8B4E7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986D3-792F-4264-BE95-ECC68A62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E7EB85-FB7F-4A6A-A206-8510031A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1799D9-F143-416A-A856-DEC9FFA4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0DBBB7-BBAD-49D4-9F27-7753EBDAA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78B6D8-0B0B-4362-8EBD-42FF54B0F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7D8E92-78F0-431D-9FB9-C3F4E7A25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6E554A-7737-4738-A8E5-77AA00F87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E56316-D030-4A31-A0C2-2E0F38846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7F0D19-BEC4-4766-993E-9AF3FB1C6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0C4064-70B6-4A04-8D18-2BCA73ACB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D0366C-DBC3-40F5-9896-682D11B8A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22BDE-3F0E-47F3-80A5-168DA20B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0DDA23-4353-436C-9673-ED756F94E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29586D-B610-40B8-9633-803DD01D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773422-143B-449A-97B4-A6A1AFB1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0DE7F9-A2CA-4099-9609-E27EA79A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F36504-11E9-43D3-A499-67AE0943F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819634-0B6F-42BC-B12C-F6312FDC5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C50B10-3A4D-46D2-8B49-0BF5C003E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C67312-1223-4DCF-96C1-457C638FA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D26D3D-7742-47A3-B32B-1B2B3391C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FA1C73-A9C1-4598-8D04-E43362E61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38831-FD40-4B95-85D9-E7C6ECCBB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D60800-402A-463D-9F4B-60B9559CD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8EF3C3-7975-4172-A966-92C2DA990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01CCF3-7DFF-4F15-B540-E60A3C1BE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149335-2DF9-4667-BA54-4CC8026F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B73613-7761-458C-8FB7-E55707C6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6556BD-CB53-4CAF-81C9-B0065D4E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E2393A-0740-49FA-B870-3AB15EC31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1CDE99-9B32-4B44-BE53-0215D9E95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B8E6B2-8654-4BED-AC6D-6D71D992C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D40A14-72D2-4279-A7A3-39A31533A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2B01E-E5C2-47FD-8C45-6CA4D86E1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0E7486-1677-4BF0-9071-D6E81712C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F93637-8961-4B8E-AB5D-D052BE062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E406E5-B954-45A1-88EC-89BC3BEC2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2E2F6C-512B-4E95-8CA1-1C9749F76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C091FC-618E-4A2B-9289-D3AFD0462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17E501-5CA3-4D46-9FC2-4598557B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91DB2C-397B-47DD-9694-04F79D7B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E4C9F6-FE36-4585-BDE6-07534037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8AB805-5A51-4187-B49A-E4B04EA33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01F99A-49B6-41BB-8F66-430675AD1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9A7AA-D14D-4E6E-A491-C2B7CEABC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90A6D7-D9C7-4922-9760-80DE6506F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8CBDF9-030F-4B21-A06F-2E14BBA79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D7F834-BC5A-4701-8E7C-1284DC5B2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DA1AA7-DB86-4F63-8227-71A20AD6E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1468CA-66D8-4A95-849F-993929084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512C56-2D18-4F0D-8B69-F2222B71F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F5A13C-6427-410A-9F02-8901145F6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B4952A-D80D-4A03-B8DA-DC2557D9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062A17-AA6D-45F4-8F16-877CA5BA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088B2D-13B0-46C9-A5B9-3FC434FB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52F14-B593-4923-A22A-9F462261E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1A6A88-6B50-405E-BF2D-C3DD35E9D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6A3023-CACA-41EC-A246-840FF9431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955E8F-81DF-4A7B-BDC7-67AF6B982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38895-35F4-4AAD-B60F-981C6042A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14089-FF94-4C22-B810-C756EE540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488F7-B43D-4AD1-AD79-AE7517899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9C7C0-219C-4D86-86B1-6E6290126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F430-4CED-4693-B641-9A18854E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13D4E-6A1A-4F7F-93CA-3D55E2AFC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53E20-EE2E-43F8-AAF5-EA6274CD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771D5-4E24-4A7A-B857-F846C93C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294E3-453A-45AF-ADE7-99E4AA3F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9881D-124F-4BBA-91A9-FFC921AA6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50645-7592-4172-969B-39DA46E1B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27243-5560-4141-B9D6-F1FCDCB45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D939E-5D09-402A-9561-E7B7D7E90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78E61-ACBF-456C-B601-44412242A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50D1D-10BE-45CE-B028-DDD048A6D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AC24-C7B8-4F68-B4EF-C96732530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FC617-1F4C-42F3-A852-9968BE11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5D17D-E6AA-4C4B-AE4E-A059BD53C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A9EB1-98F1-4279-9ACC-A8B3F427D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B2703-FCCE-4EFA-9701-3AF4B453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1556A-8344-4D1C-A60F-24841A24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17EC5-5D2F-45CD-8658-9C1447B7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68503-D464-445F-8565-C4CC733D1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723C4-9A7F-438A-B15A-55D5E2266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22709-4E29-4A94-B7F8-CDF8FE71A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52C35-DB3E-4FAF-A8F2-17F63D75D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A575-46FC-4EEE-86E8-50F9948A1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387B4-CEF7-43B6-990C-B06181809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A0E49-E0DA-40FA-83FD-0AD31DAF8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2B212-1F52-41BB-9DA5-719A2107C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0ED9F-0BEB-44D2-B3C8-4DEEB7AE3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65336-CB71-4740-9F7D-78268D6F6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C447A-BC59-4ADF-92C9-0C6763DC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90439-AADB-4D23-9B6E-3B06E177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4572C-CAFC-4698-BBAE-C7A64D86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30414-1C49-45C9-BCD9-C3F39D85A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F77CB-082A-406B-AFF9-BBA93ACD6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C3C6-F526-464D-9285-27290A8B1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0E0B4-CBCD-4D32-A927-CDDD28C61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3CA83-8D4F-4919-8ED6-3F776F53B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F1744-C814-4561-932E-CCE866D54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24522-CF8B-45DC-AC50-2AC79AA47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0B934A-6F80-4ADE-99AF-0C2BE6886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4CA04-2CC2-4391-9452-6FE3E4891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F6C9C-F69C-45E9-A3E0-F8F4FB0FF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A5E282-0BFB-4AB0-AA0B-5FC04E30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5AD95-5BF7-4AC8-856E-109CEFC2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D6D80-F8C5-4A51-8446-F106687C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1127-8F9F-46F0-990A-4BCCC3AE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08E7EF-F0E4-41FD-A7D6-6C96A52E8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504740-C0D7-445F-901D-89FEAD928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A8B31-CA8A-4BAE-BD41-25C925729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552C9F-BBBF-4729-96F5-5C6FB5EC3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FD3A2-8B03-442F-B6B6-C905A83BD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9A507-F77C-41F6-8E6A-7C2CFA3EF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1E370-079C-41FE-A001-5EF841384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2685D-E298-4F92-9228-80601ED8C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F84366-0322-41B1-BB51-7A317AA13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EBD86-091E-4B19-B2FA-A931CF7E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E1B5-E708-4434-B480-72656A30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916CE-5975-43D3-ACB1-7D3A545C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94BCA-23CD-4E5F-915E-8B1CE3A1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708BA-FFE8-4F79-BA71-5BC0E7E5B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9FBDB-4F66-481C-852C-7E46D4D0A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BF1F3-AAAF-4D61-B326-900066DD9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00F286-C93B-4725-B00B-9D87AA156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427EB1-E853-494A-A316-EE0A63956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2F0C63-C2B1-46F4-B8AE-0707BA1E4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CE9EB-33F3-44AE-8352-F212F9B66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0A3528-DB6B-4B3D-A761-495F90E5E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6B39-237C-4018-8A7C-2BC90F56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E83C35-765D-4135-8092-32656E81B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E483A0-A02E-416B-9CF2-9898081C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A95DFF-612A-4B9B-A1D7-91062577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8E97FD-D2E9-427B-A136-9478D64A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959D6B-8C09-4882-8BFF-75E8781E2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8D3F4B-236F-46D4-995D-E1ABF72DC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B87CB9-4674-40CD-938E-D5CA56734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AA15CC-569E-44F0-A3DD-942DE79A6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D9E628-D863-44D1-8239-B1A7815EB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5795CC-6E8C-42AA-8899-A9F2E5BE0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A51E7-98F2-4711-9A98-69A25B669A5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6C940-E742-4E7E-8075-41C68442CDD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9AD15-EC33-4DF0-92C2-6807DD6FFB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CC11F-E2EB-4BCD-BD57-06F7C9C271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A6F36-967B-4EDC-8C2B-298A999B0D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26E54-C215-49AD-9D98-C1876CB09A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F22F9-887F-47A0-8AE9-8D977A4A02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3B637-8FE8-482E-9473-B7C57F4B0E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B8701-48ED-421C-838E-A4BB82D1C7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3E2E0-6490-46D7-A5A2-0A97C146FF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AA1DB-9430-4BE7-8D05-E080FD38AD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8A575-D647-4DAD-A8AB-CFF0C47C70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31EC5-1F92-4866-ADA3-583C032B21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7272C-AEBC-4D84-8F92-269273F588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30B85-8999-4B06-AB5F-70DEFA507E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BC6F4-80D7-48D9-A954-16EA2402F1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E1A3B-76A7-4E82-B81C-70FCE7D4D8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06B1B-3A34-422E-A576-091E519011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322E7-E2A4-434C-A2C8-44EDA2724A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0B32D-7F7D-4C6F-AA3E-71DAC63FEE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3F7B4-80C8-4D9A-AD9E-F98E6AB7A5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76994-86E0-4491-9C0D-D57DBD3A98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8E59C-47C2-4557-8309-2E35154158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A8478-0F4E-4FC2-A59E-E28C36C265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3FA70-9BBF-47D8-8BD5-C724139899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936F7-3738-4EB8-8F58-20492C7BB0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509A3-5F9A-4B99-9DED-D7FA2A3E11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F497F-A7A5-4305-9E53-E6117F0ACED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E8430-1060-441C-8B88-926696024C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9FFD6-D2C0-4815-B777-F36A96F032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BC684-D438-4B4F-B65A-C7D88071C4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402E4-D632-4473-B7D1-D3D5406186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2AC24-A75E-4C9C-87ED-07C0388276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81842-0275-4A26-AEC6-94DDF981B0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5DD50-800F-4801-BE29-DC56A82FA0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3209-CC7B-4A5A-BB80-730DC02FA2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14133-5968-4FC0-9407-3F93AC2F98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A9104-4724-4E60-8309-B25FDD3336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B938D-4E80-496D-95AE-FBED68DBB3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BF8C0-4757-4B7E-9A9B-D8F469A93A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3314880" y="3052800"/>
            <a:ext cx="251460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图片 69633" descr=""/>
          <p:cNvPicPr/>
          <p:nvPr/>
        </p:nvPicPr>
        <p:blipFill>
          <a:blip r:embed="rId1"/>
          <a:stretch/>
        </p:blipFill>
        <p:spPr>
          <a:xfrm>
            <a:off x="468360" y="3860640"/>
            <a:ext cx="8105760" cy="1895760"/>
          </a:xfrm>
          <a:prstGeom prst="rect">
            <a:avLst/>
          </a:prstGeom>
          <a:ln w="0">
            <a:noFill/>
          </a:ln>
        </p:spPr>
      </p:pic>
      <p:pic>
        <p:nvPicPr>
          <p:cNvPr id="959" name="图片 69634" descr=""/>
          <p:cNvPicPr/>
          <p:nvPr/>
        </p:nvPicPr>
        <p:blipFill>
          <a:blip r:embed="rId2"/>
          <a:stretch/>
        </p:blipFill>
        <p:spPr>
          <a:xfrm>
            <a:off x="1258920" y="1341360"/>
            <a:ext cx="6619680" cy="195264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3"/>
          <a:stretch/>
        </p:blipFill>
        <p:spPr>
          <a:xfrm>
            <a:off x="4413240" y="1484280"/>
            <a:ext cx="503280" cy="79236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4"/>
          <a:stretch/>
        </p:blipFill>
        <p:spPr>
          <a:xfrm>
            <a:off x="4427640" y="2349360"/>
            <a:ext cx="503280" cy="79236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5"/>
          <a:stretch/>
        </p:blipFill>
        <p:spPr>
          <a:xfrm>
            <a:off x="7294680" y="1498680"/>
            <a:ext cx="503280" cy="79200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6"/>
          <a:stretch/>
        </p:blipFill>
        <p:spPr>
          <a:xfrm>
            <a:off x="7308720" y="2363760"/>
            <a:ext cx="503280" cy="79236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7"/>
          <a:stretch/>
        </p:blipFill>
        <p:spPr>
          <a:xfrm>
            <a:off x="1749600" y="3932280"/>
            <a:ext cx="502920" cy="79200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8"/>
          <a:stretch/>
        </p:blipFill>
        <p:spPr>
          <a:xfrm>
            <a:off x="1763640" y="4797360"/>
            <a:ext cx="503280" cy="79236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9"/>
          <a:stretch/>
        </p:blipFill>
        <p:spPr>
          <a:xfrm>
            <a:off x="4557600" y="3932280"/>
            <a:ext cx="503280" cy="79200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10"/>
          <a:stretch/>
        </p:blipFill>
        <p:spPr>
          <a:xfrm>
            <a:off x="4572000" y="4797360"/>
            <a:ext cx="503280" cy="7923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11"/>
          <a:stretch/>
        </p:blipFill>
        <p:spPr>
          <a:xfrm>
            <a:off x="7726320" y="4003560"/>
            <a:ext cx="503280" cy="79236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12"/>
          <a:stretch/>
        </p:blipFill>
        <p:spPr>
          <a:xfrm>
            <a:off x="8245440" y="4869000"/>
            <a:ext cx="50328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333360" y="719280"/>
            <a:ext cx="8477280" cy="541944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5364000" y="20606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3348000" y="2708280"/>
            <a:ext cx="1295280" cy="4478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3635280" y="32418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3059280" y="393372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6659640" y="386064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6877080" y="5027760"/>
            <a:ext cx="1008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图片 59410" descr=""/>
          <p:cNvPicPr/>
          <p:nvPr/>
        </p:nvPicPr>
        <p:blipFill>
          <a:blip r:embed="rId1"/>
          <a:stretch/>
        </p:blipFill>
        <p:spPr>
          <a:xfrm>
            <a:off x="299880" y="682560"/>
            <a:ext cx="8544240" cy="591516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2"/>
          <a:stretch/>
        </p:blipFill>
        <p:spPr>
          <a:xfrm>
            <a:off x="2411280" y="1282680"/>
            <a:ext cx="1513080" cy="4478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3"/>
          <a:stretch/>
        </p:blipFill>
        <p:spPr>
          <a:xfrm>
            <a:off x="7380360" y="1916280"/>
            <a:ext cx="936720" cy="4474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4"/>
          <a:stretch/>
        </p:blipFill>
        <p:spPr>
          <a:xfrm>
            <a:off x="7236000" y="2708280"/>
            <a:ext cx="936360" cy="4478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5"/>
          <a:stretch/>
        </p:blipFill>
        <p:spPr>
          <a:xfrm>
            <a:off x="7885080" y="436572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6"/>
          <a:stretch/>
        </p:blipFill>
        <p:spPr>
          <a:xfrm>
            <a:off x="7812000" y="494172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7"/>
          <a:stretch/>
        </p:blipFill>
        <p:spPr>
          <a:xfrm>
            <a:off x="7812000" y="6165720"/>
            <a:ext cx="647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图片 58373" descr=""/>
          <p:cNvPicPr/>
          <p:nvPr/>
        </p:nvPicPr>
        <p:blipFill>
          <a:blip r:embed="rId1"/>
          <a:stretch/>
        </p:blipFill>
        <p:spPr>
          <a:xfrm>
            <a:off x="318960" y="1081080"/>
            <a:ext cx="8506080" cy="537228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2"/>
          <a:stretch/>
        </p:blipFill>
        <p:spPr>
          <a:xfrm>
            <a:off x="7942320" y="170028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3"/>
          <a:stretch/>
        </p:blipFill>
        <p:spPr>
          <a:xfrm>
            <a:off x="2050920" y="595008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4"/>
          <a:stretch/>
        </p:blipFill>
        <p:spPr>
          <a:xfrm>
            <a:off x="7596360" y="5950080"/>
            <a:ext cx="5029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图片 57352" descr=""/>
          <p:cNvPicPr/>
          <p:nvPr/>
        </p:nvPicPr>
        <p:blipFill>
          <a:blip r:embed="rId1"/>
          <a:stretch/>
        </p:blipFill>
        <p:spPr>
          <a:xfrm>
            <a:off x="676440" y="1824120"/>
            <a:ext cx="7791120" cy="320976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2"/>
          <a:stretch/>
        </p:blipFill>
        <p:spPr>
          <a:xfrm>
            <a:off x="1820880" y="44370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3"/>
          <a:stretch/>
        </p:blipFill>
        <p:spPr>
          <a:xfrm>
            <a:off x="4572000" y="443700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图片 56324" descr=""/>
          <p:cNvPicPr/>
          <p:nvPr/>
        </p:nvPicPr>
        <p:blipFill>
          <a:blip r:embed="rId1"/>
          <a:stretch/>
        </p:blipFill>
        <p:spPr>
          <a:xfrm>
            <a:off x="262080" y="87480"/>
            <a:ext cx="8126280" cy="659916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2"/>
          <a:stretch/>
        </p:blipFill>
        <p:spPr>
          <a:xfrm>
            <a:off x="2556000" y="34290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3"/>
          <a:stretch/>
        </p:blipFill>
        <p:spPr>
          <a:xfrm>
            <a:off x="6372360" y="618012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图片 55300" descr=""/>
          <p:cNvPicPr/>
          <p:nvPr/>
        </p:nvPicPr>
        <p:blipFill>
          <a:blip r:embed="rId1"/>
          <a:stretch/>
        </p:blipFill>
        <p:spPr>
          <a:xfrm>
            <a:off x="318960" y="1152360"/>
            <a:ext cx="8506080" cy="455328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2"/>
          <a:stretch/>
        </p:blipFill>
        <p:spPr>
          <a:xfrm>
            <a:off x="2771640" y="2492280"/>
            <a:ext cx="468000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8" name="图片 54276" descr=""/>
          <p:cNvPicPr/>
          <p:nvPr/>
        </p:nvPicPr>
        <p:blipFill>
          <a:blip r:embed="rId1"/>
          <a:stretch/>
        </p:blipFill>
        <p:spPr>
          <a:xfrm>
            <a:off x="361800" y="1062000"/>
            <a:ext cx="8420400" cy="473400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2"/>
          <a:stretch/>
        </p:blipFill>
        <p:spPr>
          <a:xfrm>
            <a:off x="4356000" y="3141720"/>
            <a:ext cx="3529080" cy="44748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3"/>
          <a:stretch/>
        </p:blipFill>
        <p:spPr>
          <a:xfrm>
            <a:off x="4859280" y="3730680"/>
            <a:ext cx="4033800" cy="44748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4"/>
          <a:stretch/>
        </p:blipFill>
        <p:spPr>
          <a:xfrm>
            <a:off x="4643280" y="4365720"/>
            <a:ext cx="4034160" cy="44748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5"/>
          <a:stretch/>
        </p:blipFill>
        <p:spPr>
          <a:xfrm>
            <a:off x="4643280" y="4941720"/>
            <a:ext cx="40341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图片 52231" descr=""/>
          <p:cNvPicPr/>
          <p:nvPr/>
        </p:nvPicPr>
        <p:blipFill>
          <a:blip r:embed="rId1"/>
          <a:stretch/>
        </p:blipFill>
        <p:spPr>
          <a:xfrm>
            <a:off x="700200" y="1476360"/>
            <a:ext cx="7743600" cy="390528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2"/>
          <a:stretch/>
        </p:blipFill>
        <p:spPr>
          <a:xfrm>
            <a:off x="4356000" y="2133720"/>
            <a:ext cx="4248360" cy="44748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3"/>
          <a:stretch/>
        </p:blipFill>
        <p:spPr>
          <a:xfrm>
            <a:off x="4572000" y="2708280"/>
            <a:ext cx="4248000" cy="44784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4"/>
          <a:stretch/>
        </p:blipFill>
        <p:spPr>
          <a:xfrm>
            <a:off x="4572000" y="3284640"/>
            <a:ext cx="4248000" cy="44748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5"/>
          <a:stretch/>
        </p:blipFill>
        <p:spPr>
          <a:xfrm>
            <a:off x="4500720" y="3917880"/>
            <a:ext cx="4248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2T01:16:40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